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%D8%A3%D9%85%D9%8A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166E-E3B8-4584-9779-8575E9DF5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EAB8-FEEA-440A-9B5F-A1B3AF53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CBF4-2D64-4EC1-BD17-5ED5B0BA9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08DD-1F79-4161-8C19-2DAED22FD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7171-AF3B-46EC-98A3-0A01C694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7FFA-3928-41B9-BB0F-F924A1F2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CC30-AD2C-4F33-8F79-682EB48A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C2B9-A842-4F11-A861-46E1155C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F542-4A2D-4BDA-958E-8DCAA521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81AE-EF79-49F9-9333-6B07F80D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903F-A558-4D1F-A304-192E73E7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7FBA-0405-4F94-90F9-CBE89C6B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64A4-2A59-43D3-B773-4ED84B23D57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1571;&#1605;&#1610;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305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ff00"/>
                </a:solidFill>
                <a:latin typeface="Arial"/>
              </a:rPr>
              <a:t>كان لأمي عين واحدة... وقد كرهتها... لأنها كانت تسبب لي الإحراج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5320" y="5105520"/>
            <a:ext cx="580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y mom only had one eye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 hated her... she was such an embarrassmen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ff00"/>
                </a:solidFill>
                <a:latin typeface="Arial"/>
              </a:rPr>
              <a:t>لم أكن متردداً فيما قلت ولم أفكر بكلامي لأني كنت غاضباً جداً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.</a:t>
            </a:r>
            <a:r>
              <a:rPr b="1" lang="ar-SY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11480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 didn't even stop to think for a second about what I had said, because I was full of ange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6000" spc="-1" strike="noStrike">
                <a:solidFill>
                  <a:srgbClr val="ffffff"/>
                </a:solidFill>
                <a:latin typeface="Arial"/>
              </a:rPr>
              <a:t>ولم أبالي لمشاعرها ..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4038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 was oblivious to her feeling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03760" y="1371600"/>
            <a:ext cx="8265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6000" spc="-1" strike="noStrike">
                <a:solidFill>
                  <a:srgbClr val="ff00ff"/>
                </a:solidFill>
                <a:latin typeface="Arial"/>
              </a:rPr>
              <a:t>وأردت مغادرة المكان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3962520"/>
            <a:ext cx="55623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I wanted out of that house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cc00"/>
                </a:solidFill>
                <a:latin typeface="Arial"/>
              </a:rPr>
              <a:t>درست بجد وحصلتُ على منحة للدراسة في سنغافورة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7040" y="4800600"/>
            <a:ext cx="790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So I studied real hard, got a chance to go to Singapore to study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وفعلاً.. ذهبت .. ودرست .. ثم تزوجت .. واشتريت بيتاً .. وأنجبت أولاداً وكنت سعيداً ومرتاحاً في حياتي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388620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4191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n, I got married.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 bought a house of my own.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 had kids of my own. I was happy with my  lif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ff00"/>
                </a:solidFill>
                <a:latin typeface="Arial"/>
              </a:rPr>
              <a:t>وفي يوم من الأيام ..أتت أمي لزيارتي ولم تكن قد رأتني منذ سنوات ولم ترى أحفادها أبدا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4956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en one day, my mother came to visit me. She hadn't seen me in years and she didn't even meet her grandchildren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!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66ffff"/>
                </a:solidFill>
                <a:latin typeface="Arial"/>
              </a:rPr>
              <a:t>وقفت على الباب وأخذ أولادي يضحكون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09000" y="4876920"/>
            <a:ext cx="704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When she stood by the door, my children laughed at her</a:t>
            </a: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ff00"/>
                </a:solidFill>
                <a:latin typeface="Arial"/>
              </a:rPr>
              <a:t>صرخت: كيف تجرأتِ وأتيت لتخيفي اطفالي؟.. </a:t>
            </a: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اخرجي حالاً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6227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 screamed at her, "How dare you come to my house and scare my children!"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ET OUT OF HERE! NOW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!!!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00cc00"/>
                </a:solidFill>
                <a:latin typeface="Arial"/>
              </a:rPr>
              <a:t>أجابت بهدوء: (آسفة .. أخطأتٌ العنوان على ما يبدو).. واختفت.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And to this, my mother quietly answered, "Oh, I'm so sorry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I may have gotten the wrong address," and she disappeared out of sight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ffff"/>
                </a:solidFill>
                <a:latin typeface="Arial"/>
              </a:rPr>
              <a:t>وذات يوم وصلتني رسالة من المدرسة تدعوني لجمع الشمل العائلي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4876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e day, a letter regarding a school reunion came to my hous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66ffff"/>
                </a:solidFill>
                <a:latin typeface="Arial"/>
              </a:rPr>
              <a:t>وكانت تعمل طاهية في المدرسة التي أتعلم فيها لتعيل العائلة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41148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She cooked for students &amp; teachers to support the family</a:t>
            </a: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فكذبت على زوجتي وأخبرتها أنني سأذهب في رحلة عمل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4956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 I lied to my wife that I was going on a business trip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ff"/>
                </a:solidFill>
                <a:latin typeface="Arial"/>
              </a:rPr>
              <a:t>بعد الاجتماع ذهبت الى البيت القديم الذي كنا نعيش فيه, للفضول فقط!!!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41911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After the reunion, I went to the old shack just out of curiosity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!!!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663300"/>
                </a:solidFill>
                <a:latin typeface="Arial"/>
              </a:rPr>
              <a:t>أخبرني الجيران أن أمي.... توفيت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2670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My neighbors said that she died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لم أذرف ولو دمعة واحدة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0384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 did not shed a single tear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!!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7f5ec2"/>
                </a:solidFill>
                <a:latin typeface="Arial"/>
              </a:rPr>
              <a:t>قاموا بتسليمي رسالة من أمي 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11480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5ec2"/>
                </a:solidFill>
                <a:latin typeface="Arial"/>
              </a:rPr>
              <a:t>They handed me a letter that she had wanted me to have</a:t>
            </a:r>
            <a:r>
              <a:rPr b="1" lang="en-US" sz="2000" spc="-1" strike="noStrike">
                <a:solidFill>
                  <a:srgbClr val="7f5ec2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ffff"/>
                </a:solidFill>
                <a:latin typeface="Arial"/>
              </a:rPr>
              <a:t>ابني الحبيب.. لطالما فكرت بك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572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y dearest son, I think of you all the tim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cdad37"/>
                </a:solidFill>
                <a:latin typeface="Arial"/>
              </a:rPr>
              <a:t>آسفة لمجيئي إلى سنغافورة وإخافة أولاد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0384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dad37"/>
                </a:solidFill>
                <a:latin typeface="Arial"/>
              </a:rPr>
              <a:t>I'm sorry that I came to Singapore and scared your children</a:t>
            </a:r>
            <a:r>
              <a:rPr b="1" lang="en-US" sz="2000" spc="-1" strike="noStrike">
                <a:solidFill>
                  <a:srgbClr val="cdad37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66"/>
                </a:solidFill>
                <a:latin typeface="Arial"/>
              </a:rPr>
              <a:t>كنت سعيدة جداً عندما سمعتُ أنك سوف تأتي للاجتما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648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I was so glad when I heard you were coming for the reunion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2193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66ffff"/>
                </a:solidFill>
                <a:latin typeface="Arial"/>
              </a:rPr>
              <a:t>ولكني قد لا أستطيع مغادرة السرير لرؤيت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648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But I may not be able to even get out of bed to see you</a:t>
            </a: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7f5ec2"/>
                </a:solidFill>
                <a:latin typeface="Arial"/>
              </a:rPr>
              <a:t>آسفة لأنني سببت لك الإحراج مراتٍ ومرات في حياتك.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5560" y="4267080"/>
            <a:ext cx="90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5ec2"/>
                </a:solidFill>
                <a:latin typeface="Arial"/>
              </a:rPr>
              <a:t>I'm sorry that I was a constant embarrassment to you when you were growing up</a:t>
            </a:r>
            <a:r>
              <a:rPr b="1" lang="en-US" sz="1800" spc="-1" strike="noStrike">
                <a:solidFill>
                  <a:srgbClr val="7f5ec2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ffff"/>
                </a:solidFill>
                <a:latin typeface="Arial"/>
              </a:rPr>
              <a:t>ذات يوم...في المرحلة الابتدائية  جاءت لتطمئن عَلي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4267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was this one day during elementary school where my mom came to say hello to m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ff00"/>
                </a:solidFill>
                <a:latin typeface="Arial"/>
              </a:rPr>
              <a:t>هل تعلم... لقد تعرضتَ لحادثٍ عندما كنت صغيراً وقد فقدتَ عين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1911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You see........when you were very little, you got into an accident, and lost your eye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99cc00"/>
                </a:solidFill>
                <a:latin typeface="Arial"/>
              </a:rPr>
              <a:t>وكأي أم, لم استطع أن أتركك تكبر بعينٍ واحدةٍ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0384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As a mother, I couldn't stand watching you having to grow up with one eye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cc00"/>
                </a:solidFill>
                <a:latin typeface="Arial"/>
              </a:rPr>
              <a:t>ولِذا... أعطيتكَ عيني .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0384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So… I gave you mine</a:t>
            </a: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…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cdad37"/>
                </a:solidFill>
                <a:latin typeface="Arial"/>
              </a:rPr>
              <a:t>وكنتُ سعيدة وفخورة جداً لأن ابني يستطيع رؤية العالم بعيني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88620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dad37"/>
                </a:solidFill>
                <a:latin typeface="Arial"/>
              </a:rPr>
              <a:t>I was so proud of my son who was seeing a whole new world for me, in my place, with that eye</a:t>
            </a:r>
            <a:r>
              <a:rPr b="1" lang="en-US" sz="2000" spc="-1" strike="noStrike">
                <a:solidFill>
                  <a:srgbClr val="cdad37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6000" spc="-1" strike="noStrike">
                <a:solidFill>
                  <a:srgbClr val="ff0000"/>
                </a:solidFill>
                <a:latin typeface="Arial"/>
              </a:rPr>
              <a:t>.....مع حبي..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9625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ith my love to you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6000" spc="-1" strike="noStrike">
                <a:solidFill>
                  <a:srgbClr val="ff0066"/>
                </a:solidFill>
                <a:latin typeface="Arial"/>
              </a:rPr>
              <a:t>.....أمــــــــــــك..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9625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…</a:t>
            </a: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Your mother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838080"/>
            <a:ext cx="9144000" cy="81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سبحان  الله: إذا كانت هذه رحمة الأم بولدها فكيف برحمة الله سبحانه؟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يقول رسول الله صلى الله عليه وسلم في الحديث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عن أبي هريرة رضي الله عنه عن النبي صلى الله عليه وسلم أنه قا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0000"/>
                </a:solidFill>
                <a:latin typeface="Times New Roman"/>
                <a:ea typeface="Diwani Bent"/>
              </a:rPr>
              <a:t>( إن لله مئة رحمة قسم منها رحمة بين جميع الخلائق بها يتراحمون و بها يتعاطفون و بها تعطف الوحش على أولادها وأخر تسعة وتسعين رحمة يرحم بها عباده يوم القيامة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722160"/>
            <a:ext cx="9144000" cy="84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ويقول أيضا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Arial"/>
                <a:ea typeface="Diwani Letter"/>
              </a:rPr>
              <a:t> </a:t>
            </a:r>
            <a:r>
              <a:rPr b="0" lang="ar-SY" sz="4800" spc="-1" strike="noStrike">
                <a:solidFill>
                  <a:srgbClr val="000000"/>
                </a:solidFill>
                <a:latin typeface="Arial"/>
                <a:ea typeface="Diwani Letter"/>
              </a:rPr>
              <a:t>( عن عمر بن الخطاب أنه قدم على رسول الله صلى الله عليه وسلم  بسبي فإذا امرأةٌ من السبي تبتغي إذا وجدت صبياً في السبي أخذته فألصقته ببطنها وأرضعته فقال لنا: أترون هذه المرأة طارحةً ولدها في النار؟ قلنا: لا والله – وهي تقدر أن لا تطرحه فقال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000000"/>
                </a:solidFill>
                <a:latin typeface="Arial"/>
                <a:cs typeface="Diwani Letter"/>
              </a:rPr>
              <a:t>الله أرحم بعباده من هذه بولدها )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685800"/>
            <a:ext cx="9144000" cy="82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Omar Ebnulkhatab said: </a:t>
            </a:r>
            <a:r>
              <a:rPr b="1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Once upon a time while we had some captives we saw captive a woman taking babies, held them tight and breast fed them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The prophet asked us: Do you think this woman will throw his baby in fire? We said: No if she has the choice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Then He said: </a:t>
            </a:r>
            <a:r>
              <a:rPr b="1" lang="en-US" sz="4000" spc="-1" strike="noStrike">
                <a:solidFill>
                  <a:srgbClr val="ff0000"/>
                </a:solidFill>
                <a:latin typeface="Baskerville Old Face"/>
                <a:ea typeface="Diwani Bent"/>
              </a:rPr>
              <a:t>Allah is more merciful to his worshiper than her with her sun</a:t>
            </a:r>
            <a:r>
              <a:rPr b="1" lang="en-US" sz="4000" spc="-1" strike="noStrike">
                <a:solidFill>
                  <a:srgbClr val="ff0000"/>
                </a:solidFill>
                <a:latin typeface="Baskerville Old Face"/>
                <a:ea typeface="Diwani Bent"/>
              </a:rPr>
              <a:t>.</a:t>
            </a:r>
            <a:r>
              <a:rPr b="1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iwani Ben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iwani Ben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838080"/>
            <a:ext cx="914400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وكما قال رسول الله صلى الله عليه وسلم عندما سُئ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Arial"/>
                <a:cs typeface="Diwani Bent"/>
              </a:rPr>
              <a:t>يا رسول الله من أحق الناس بحسن صحابتي قال أمك قال ثم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Arial"/>
                <a:cs typeface="Diwani Bent"/>
              </a:rPr>
              <a:t>من قال أمك قال ثم من قال أمك قال ثم من قال أبو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صدق رسول الله صلى الله عليه وسل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676520" y="6172200"/>
            <a:ext cx="61722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نحمد الله على نعمة الإسلام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ff"/>
                </a:solidFill>
                <a:latin typeface="Arial"/>
              </a:rPr>
              <a:t>أحسست بالإحراج فعلاً ... كيف فعلت هذا بي؟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4267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I was so embarrassed.</a:t>
            </a:r>
            <a:br>
              <a:rPr sz="2000"/>
            </a:b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How could she do this to me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?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295280"/>
            <a:ext cx="91440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The prophet (sall-Allahu alayhi wassallam) Told 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Arial Unicode MS"/>
              </a:rPr>
              <a:t>us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 that we must obey Allah and His messenger at all times but after that Comes your mother then your mother then Your mother then your fa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iwani Ben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iwani Ben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676520" y="6172200"/>
            <a:ext cx="61722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anks Allah we are Muslims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8915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cc00"/>
                </a:solidFill>
                <a:latin typeface="Arial"/>
              </a:rPr>
              <a:t>تجاهلتها, ورميتها بنظرة مليئة بالكر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4419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I ignored her, threw her a hateful look and ran out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وفي اليوم التالي قال أحد التلامذة ... أمك  </a:t>
            </a:r>
            <a:br>
              <a:rPr sz="4400"/>
            </a:b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بعين واحده ... أوووو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419720"/>
            <a:ext cx="8915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next day at school one of my classmates said,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"EEEE, your mom only has one ey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!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bbe0e3"/>
                </a:solidFill>
                <a:latin typeface="Arial"/>
              </a:rPr>
              <a:t>وحينها تمنيت أن أدفن نفسي </a:t>
            </a:r>
            <a:br>
              <a:rPr sz="4400"/>
            </a:br>
            <a:r>
              <a:rPr b="1" lang="ar-SY" sz="4400" spc="-1" strike="noStrike">
                <a:solidFill>
                  <a:srgbClr val="bbe0e3"/>
                </a:solidFill>
                <a:latin typeface="Arial"/>
              </a:rPr>
              <a:t>وأن تختفي امي من حياتي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8769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I wanted to bury myself.</a:t>
            </a:r>
            <a:br>
              <a:rPr sz="2000"/>
            </a:b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I also wanted my mom to just disappear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66ff33"/>
                </a:solidFill>
                <a:latin typeface="Arial"/>
              </a:rPr>
              <a:t>في اليوم التالي واجهتها :</a:t>
            </a:r>
            <a:br>
              <a:rPr sz="4400"/>
            </a:br>
            <a:r>
              <a:rPr b="1" lang="ar-SY" sz="4400" spc="-1" strike="noStrike">
                <a:solidFill>
                  <a:srgbClr val="66ff33"/>
                </a:solidFill>
                <a:latin typeface="Arial"/>
              </a:rPr>
              <a:t>لقد جعلتِ مني أضحوكة, لِم لا تموتين ؟!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4197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So I confronted her that day and said, " If you're only gonna make me a laughing stock, why don't you just die</a:t>
            </a: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?!!!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828800" y="1219320"/>
            <a:ext cx="5013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6600" spc="-1" strike="noStrike">
                <a:solidFill>
                  <a:srgbClr val="99cc00"/>
                </a:solidFill>
                <a:latin typeface="Arial"/>
              </a:rPr>
              <a:t>ولكنها لم تُجب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41148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My mom did not respond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09:08:13Z</dcterms:created>
  <dc:creator>mea</dc:creator>
  <dc:description/>
  <dc:language>en-US</dc:language>
  <cp:lastModifiedBy>building systems</cp:lastModifiedBy>
  <dcterms:modified xsi:type="dcterms:W3CDTF">2006-06-13T22:47:58Z</dcterms:modified>
  <cp:revision>20</cp:revision>
  <dc:subject/>
  <dc:title>My mom only had one eye.  I hated her... she was such an embarrassment. </dc:title>
</cp:coreProperties>
</file>